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645275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246-694F-49CA-B66B-EF674DAC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470-EA2E-4CD5-9BA4-E6BC68AA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E2C-8A87-4970-B2F0-70524FCE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7D1-72AA-4FAC-8A14-7B39E11F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2E3-FEC5-437C-BC6C-69A041E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776-C949-4E4B-87CF-089D674A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42F-99BE-4634-8152-CF8F1CB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FB9-FA1C-45ED-BEB9-BF0A979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27B-C6D6-4F18-B996-7B3AFD8A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E6B-BFE0-4A5A-9163-00763E8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C44-56B1-4A0A-A78E-3DD14C0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476-36CB-4F48-99B5-BC393D9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EDC-3089-4875-8C5D-37CE32B8FE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0B76-BE55-4E86-A71F-4D9210EA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-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the Instruction Set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C9D-1407-4885-BF91-8871A70F6F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2433C-A27A-4DCC-84EB-DBB747B43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BR, MAR, PC driven by control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, H does not have enable signals -alway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 has word addresses, PC has byte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ing memory fetch will be put into low order 8 bits of M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/MBR is used to read instructions (executable byte stream). All,other registers use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/MDR used to read operands (word bound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of MBR gated to bu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6F2-7E06-4F78-9387-2CDAA9193E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67246-1CF9-425D-9CD2-4547B4ABF5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ut Formats of MD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-bit Unsigned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indexes or part of 16 bit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to low 8 bits in bus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s in upper 2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 value between –127 and +127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MBR sign bit (leftmost 8) into 24 leftmost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numerical value into 8 rightmost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nown as signed ext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why there are two lines from MBR 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B61-5B85-4A4C-8382-9CECBF737F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342B8-6CF5-4B15-A871-C96C92F49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ed 29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to write from C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to write to B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to control ALU and shif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o indicate r/w to MAR/MD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for memory fetch via PC/M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7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754-E160-465A-BDEA-183CCBAD70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E0541-8F7F-4128-B10F-63DF5FDD8E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ing values on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ing values through ALU and shif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ing signals on to C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results in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mory r/w asserted, initiate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operation started at end of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vailable only after next cycle. (one cycle missed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write value in C onto more than one register, but never put value onto B from more than one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E9D-C214-4782-9F04-90091CB539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E1BF8-2ECE-43D0-A880-06352083F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instruction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lect inputs to B bus need 4 bytes (2**4=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s needed for controlling data path = 9+4+8+2+1 = 24 bits for on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_ADDRESS and JAM needed to indicate next instruction to be fet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9DD-5CB6-4118-95E7-CD33CD7AA1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7C6DB-7575-480F-BB46-AFF0FB8DE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instruction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: potential nex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 how next microinstruction is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 Which register written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: memory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ource of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41E-2351-4AA8-B78C-7D4B199868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FC157-3839-4D20-93F4-1079D63F82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instruct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r steps through operations to execute each ISA instruction prov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of each control signal (asserted or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of next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Store = holds microprogram, made of read only memory (logic g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ontrol store contain 512, 36 bit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icroinstruction specifies its success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= MPC (Microprogram 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ata register  = MIR (Microinstruction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9DF-A97A-4DA0-A669-24A9CA8DF7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E86AA-9C50-443E-9BDC-1A39C3BF7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8483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8EE-0F23-46F4-B347-464F6C57D19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03320-8FD2-44BE-9575-4A70A21AD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C, M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 bits drives 4 to16 decoder for bus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falling edge MIR loaded from word in control store pointed by MPC (s-Cycle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propagate to data paths and register put onto bus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 knows operation (s-Cycl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174-1858-467F-B8B6-BB6285AC9A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B915D-DEFF-4ADB-93CA-64EFAD778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C, M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, N, Z stable output in s-Cyc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propagates to register via C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s, N, Z  loaded in s-Cycl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8FF-A107-424D-BAE2-87394BE6B2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F70CC-FDFC-4E3E-87D1-70FFD2AEE2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er Java Virtual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-program has simple instructions and state (values assigned to var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hanges as code exec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runs in a 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ch-execu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tches instruction (opcode =operation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tches operands (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795-1E55-4307-BF24-C28E283124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549C-9232-4214-BDDC-FA9F75BA6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Next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hen MIR is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-ADDRESS copied to M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AM is 000 nothing mor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AMN is set N is ORed to higher order bit of M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AMZ is set Z is ORed to higher order bit of M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after rising edge of clock bus B outputs no longer valid: ALU outputs not reliable, hence save status in N and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7A9-CEDE-47B2-8441-89E7486CCE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376EC-CCDF-4580-A680-E683C652B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Next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11480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57800" y="1066680"/>
            <a:ext cx="358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 Function Computed in Logic Gat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AMZ)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AMN and N)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_ADDRESS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C takes either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_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_ADDRESS with higher order bits 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33F-82E4-42F4-BCD7-E435C020BE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37DA1-2B86-44D4-9572-4708F0CB3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ing Next Instruction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Instruction @ 0x75 has NEXT_ADDRESS = 0X9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Z bit is 0, next instruction = 0x92, else 0x1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1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C42-C26F-43C8-91A7-835B486DAE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DA183-AFBB-4724-92F2-12E2DA8CE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MBR for Next Address Co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MPC set, 8 MBR bits bitwise Ored with 8 low order bits of NEXT_ADDRESS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JMPC is 1, 8 low order bits of NEXT_ADDRESS is zero, higher order is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NEXT_ADDRESS becomes 0x000 or 0x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ulti-way branching (jump), MBR has op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4183200"/>
            <a:ext cx="5791320" cy="189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8FB-254E-4450-A8CF-876087161B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EA74C-7CAE-4700-AA21-9DCF6331E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icroinstructions Work: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ycle 1: MIR loaded from address in M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ycle 2: MIR propagated out, B lo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ycle 3: ALU, Shifter produce stabl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ycle 4: C, Memory and ALU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s load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, Z 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R, MDR get values from memory (If started in previous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C get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ycle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54D-E1EA-4180-B6BD-B7091214BA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50DA4-E7DD-4CB5-9918-311D3B93F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ISA: IJ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s: Used to implement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frames are used to store st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variables (environ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y results of arithmetic compu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 bottom, SP top of st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+offset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25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4F5-8BE7-475D-9F5E-C37E24E860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48B3-DA90-4B97-AF14-D80463D23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cks for Arithm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s are rarely used for arithmetic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 mixed in with local variabl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DF4-9A75-4261-A6D7-170E3A092A9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B613F-6812-46C4-9FF9-DFF57BC92F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= 4GB = 1 GB array of 4 byte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Separate ar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Pool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stants, strings, and pointers to other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be written by an IJVM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d when program is bought in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P is the beginning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method (function, procedure) there is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has (in and out)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 is the beginning of Local Variabl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F0C-B73F-4346-BA96-272A96551A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EBE45-A0D9-4FF0-BBD1-0E9F6353E7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JVM Memory Model - C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nd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nstant size, computed at compi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above LV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 indicat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area of code resid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points to an address here containing the next instruction to be fe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ddresses refer to words (4 by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LV+4 refers to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d after 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CD6-496C-421B-973C-46E268F58D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85B71-C015-4349-A7AE-4BBC99A34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JVM Memor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F40-481D-4981-8705-7A085480CF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35F9A-80D6-457C-996B-81A345C205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09720" y="1218960"/>
            <a:ext cx="3048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CPU containing ALU, its inputs and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registers have symbolic names MAR, MDR, PC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7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0EF-1103-4E0C-B30C-BA8BD75EB0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23A6B-FCF5-4D7D-8596-3F17FB6DF0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JVM Instruction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 consists of an opcode and optional parameters, encoded in H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 work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words onto stack from various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pool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DC_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variable fram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se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 words and store in local variable fr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BEA-8875-4C08-91CD-FB0A8555EA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8C24A-0ADF-4865-82BE-8D1FB17B1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JVM Instruction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6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733-8633-4A98-B5BE-714901103F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49756-6EF9-4687-8D1A-D4DFF4BBD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JVM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instructions come in various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gener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ly used shor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rithmetic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DD, IS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Logical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ND, 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ranch Operations: offset follows op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O, IFEQ, IFLT, IF_ICMP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CE3-B467-4BA2-9A06-DB8EDCC39C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249E1-16D7-4FA8-9166-A13CD0213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and Return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VIR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s another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pushes calee address onto stack OBJ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pushes in parameters onto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VIRTUAL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o ca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4A5-7F5A-4FDA-87B0-B077D4F728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9920D-9CCD-40A5-8ABC-C7D53B446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EVIR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3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35F-8B10-4EE0-8C87-2480D20755F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290DC-4A6F-4C86-AFB0-C2AB372FD2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 of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ord in method has speci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wo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# of parameters, with OBJREF counted as parameter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 points to OBJREF (parameter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two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local variable area of th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to allocate stack for new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 has first op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C0C-A3EE-4F11-BAFA-CD8692C3A8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917D5-64BE-4C3C-9805-A991C1AFD2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EVIRTUAL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ddress of OBJREF in constant pool using first two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base address of new stack # parameters from from sta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LV to OBJREF. Now erase value there and put address at end of stack (increase by size of stack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is location put old PC, next put Callers LV, and reset SP to this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PC to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 in method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F1D-DF63-48A4-9BC1-80FC01724C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88D2B-F83C-49D3-B83B-8CFD8D020B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917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68B-BFFC-4032-94CE-25D4E462765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04EFB-951C-4637-884F-9152EF6197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I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llocate sp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rite OBJREF with return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ink pointer to restore LV and PC of the ca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ext cycle, go back to instruction after the call in cal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plicit I/O, they are done by methods (I.e. no command line argum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E32-4FCB-4611-800D-681FB82093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B2C83-6858-4C79-8264-2E3F6A2AC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 JAVA to IJ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58200" cy="556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E94-8A96-458C-BD4F-1EDD1C6AF52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0E369-B46D-47FE-B1EB-4529651E2B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9720" y="1218960"/>
            <a:ext cx="3048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can write data into gray B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bus writes data into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rrows exchange data with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7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CCF-971B-40DB-B526-483679B824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19F0B-7176-439A-BB70-726AF2DDCE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 JAVA to IJVM: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line: empty st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337-2561-4A13-91E6-743B7248A5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6444A-35F6-444D-A933-20B6C59D5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IJV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Higher level syntax to indic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DR = H+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SP to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H and B to ALU and add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the result back in M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: MDR = SP+MDR not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is H=H-MDR as subtranhend must be in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ad write indica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d, wr, W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and writes happen in 4 byte words through 4-byte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code instruction fetch indicated b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e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7CE-EDE1-4D09-9960-1795028C0B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29AD5-B6B1-498D-AA6D-5793ECB73B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6732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C62-7505-4576-915B-4EA470D8FCB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47975-06F6-498D-8054-E67537638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instructions: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truction explicitly supplies the next instruction’s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jumps given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OTO L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for setting the JAM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Z) goto L1; else goto L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 to set JMPC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o(MBR OR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4-17 gives the micro code with 112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835-34F3-45D1-A2E7-4D33F2B003B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546AB-03B0-457D-9947-9FA2F957BD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of Fig 4-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0B7-4C3D-433A-ABC7-B9CB6D8D3A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5646C-5003-488F-9042-B9861ABC8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instruction: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S: cache for 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C: temporary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main loop to ru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-decode-execut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eginning of each instr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code fetched into M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go through the instructions in 4.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6D6-5A20-4C50-A4D1-36C16C5746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3B55F-0343-48A6-87DB-48B14E8239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 in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vs. 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machines are slow and fast machines are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measured in terms of area and not #of transistors any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s to make faste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lock cycle shorter (I.e reducing execution path leng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54B-A415-4560-9B63-CE98681CBD5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DA7DA-A5D5-4274-AE0E-23A27BB62F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Execution Path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3276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interpreter loop with micro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LU not used in POP2, us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2128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8763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920-7F04-4178-8123-E55ACE6B54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C5B16-10E7-4D7C-8023-3AE8355298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Execution Path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two input buses, A and B: Can add any two registers in on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221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2E2-32FB-4CD3-8252-75510374E6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E6A1F-3034-4728-9007-4DD5BBA49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Execution Path: IF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passed through ALU and incr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used to fetch next byte of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nds read fro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nds written 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 compute and stor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 intervenes in instruction 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separate Instruction Fetch Un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tch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EF8-4897-448D-99F5-7066F0E264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37B35-5365-4321-BD2E-F6E335DC3F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10080" y="914400"/>
            <a:ext cx="3353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nds to ALU come from register H and bu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H is written as output from Shi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 control lines for ALU, one for Shif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7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C9F-8C4A-4F96-A7CE-0393ACFB2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5A557-F7EC-449D-B194-10299AB7D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ion Fetch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U interpret code, fetch additional fields and assemble in register for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fetch next 8- or 16- bytes regardless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design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2 MBR’s. (MBR1 holds oldest, and MBR2 two oldest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senses when MBR1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next byte into MB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BR1 is read, shift register shifts I Byte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BR2 is read it is loaded 2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BA6-2EAD-4718-B683-307BF5A79A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0C6DB-4390-4605-B8E5-D1B4D7BA2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struction Fetch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2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30F-7474-4962-B7D2-D59AB3AB152A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E452E-35A3-414A-9441-DBED58F36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ol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583092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AD0-3D01-4DA9-AF67-1F1F64951A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24DD3-2E96-49E4-BF20-4005A7B1D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ion Pipel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components of the data path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ing selected registers onto A and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 and shifter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get back to registers and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ntroduce latches to partition b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perate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peed up clock because maximum delay is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rts during every sub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D12-93CF-4924-A378-BD4488A1E5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EAA35-C550-4594-9BC1-B6C0780BC2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38320" y="0"/>
            <a:ext cx="3124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5000" y="114300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ubcycle is about 1/3 original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ly during 1, 3 subcycles ALU is i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e can u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26000" cy="640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F15-9222-4685-B666-A4C0F2E336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BFC03-8ED6-41EA-92EB-68FDAE67C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ing: SWAP in Ol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new design, need 3 micro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A and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operation and loa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result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7631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776-AD9C-4C48-A308-C82136FB19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A1974-2533-4DCD-91CD-6239F804FE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SW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839080" cy="482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BDE-290E-4306-9EBA-25E3CD692A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4E63C-ACAE-45E7-ADFD-E7A682028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o start SWAP3 in cycle 3, but data available only in cycle 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: Instruction waiting for results of previous instruction,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dependency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te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-3 requires 11 cycle times, Earlier one 9without pipelining takes 18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Section 4.4.5: A seven stage pip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73A-7EB1-4B9F-AA6B-39398EF1BB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07069-AF8C-41CC-95E9-8994F8CFE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312840"/>
            <a:ext cx="7772400" cy="654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04A-4B18-4A06-814C-592D9606D76A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2E601-DD94-4724-89EB-DDD5D7B78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ing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s to impro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implementation without architectur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same code, Major sell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386 through Pentiums improvements are lik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struction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order execution with register 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ulative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07B-0C0E-4DD9-B7ED-88B8AE97A4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E43B4-FE71-49CF-9FCC-BA3A0A104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Signals to A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, ENB –enable A,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 –invert 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 – increase b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load ALU, pass the data through Shifter and store it in H in the same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618080" cy="563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4A1-CDD3-4ECA-8152-6837C1961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9B5AA-5640-4D85-81D9-FECF07EFF2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e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cache: Separate caches for instructions an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eparate memory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s the speed with independen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2 cache: extra cache for instructions an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4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333-6BAD-45F0-BED1-80BBC8F6B4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572A-1C2E-4312-989F-881A89160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s are generally in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3 caches include L2 caches and L2 caches include L1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Locality of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 divided into fixed size blocks called caches lines – 4 to 64 consecutive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mory referenc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 controller checks if included in cach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a line is removed and new line c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A7A-0153-4CC7-B384-57C955E9C2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6C971-3642-445E-9727-988EAC671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Mapped C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memory word stored exactly in on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there, not in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 BIT: on if data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: (16 bit) value identifying line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 (32 bytes) copy of data fro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74674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596-7AAA-4A10-AAB6-41E8ABB232F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E117D-0A97-40BA-8A6C-BC2872133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: Tag b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: which cache entry holds data, if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: which word with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TE: which byte with word (not used norm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PU gives address, HW extracts LINE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into cache, finds one of 2048 entries, if valid TAG field are compared, If sa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he H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he mi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, whole cache line fetched from memory, stored in cache, existing line stored back in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679-6A74-43CD-86E5-3FCAF2D4848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40F09-72BB-4C52-B63D-58362F8FF4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: Direct Mapped C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cutive memory in consecutive cache lines/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ccess pattern is precisely the size of cache, each access results in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, collisions are r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D4E-D768-4B3B-AB73-3DD300F8C6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58B9A-B38B-4A2D-A92C-CC8620994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-way Set Associative C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n-possible entry for 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ntry must be checked to see if needed line is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way and 4-way caches have performe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771516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470-C315-4D99-8F10-6D1995017B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2B37E-7E4E-4E14-A7E4-6A6E0E69EE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Cach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e replacement policy: LRU, M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hange granularity of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more slots for a data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Cache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d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entry not in cac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llocation: Bring to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memory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E0E-1594-45E8-9508-ABDAE72FE0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3C97-5679-4036-9933-359BECE0E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ing is works best with liner code, but code has branches, hence branch prediction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ipelined machines execute instruction following branch, logically should not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 can stuf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 O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, but slows down and makes code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Pre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ackward branches will be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branch taken when error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of branch pre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until change state (I.e write register) update scr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update value to be able to rollback in case of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934-EEB9-40EF-B891-46BCD81230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0538B-62AD-4892-9FC3-E13E71BB6F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ranch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U maintains history table in H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up history table for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just like c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ends take wrong guesses, and messes up re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change branch only after two correct exec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ake a Finite State Machine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04920" y="3400560"/>
            <a:ext cx="853416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22D-6892-4A22-84A3-4DFC2F93F9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6A37F-2882-4A66-AA06-9E5130DA10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Branch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passed h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a bit to indicate which branch will be mostly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pecial hardware (enhanced instru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run though a profiler (simulator ) to collect predictions, and pass them to the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AD5-4B4C-4C12-B8DB-0E85EDD9DF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F7318-5DE5-40CD-A99D-25CDCC09A4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-3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Path T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62360" y="1066680"/>
            <a:ext cx="2895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four sub-cycles in a cloc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signal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 shift 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back to registers along C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78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218-EFAD-4BC4-BB14-A4A850C32C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CEE78-5BCE-47FB-943B-6C143C9AB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Order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ed superscalar machines fetches and issues instructions before they ar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order issue and retirements is simpler but wast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nstructions depend on others, hence cannot resort to out of order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mach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registers, 2 for operands, one for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d in cycle N execution starts in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subtraction written back in 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 written back in N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board for use of registers for reading and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A51-EC6E-4F76-A2E3-35CFB90609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2BE05-4716-4D95-B6DC-4F3366AE7B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086600" cy="580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6A1-8065-4E2E-A307-611DBD79D0A5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42970-544B-446A-A230-A52DE8C002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n order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issue and in order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keep precise interru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some instruction completed, all beyond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ny operand being written, do not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result register being read, do not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result register being written, do not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4 has RAW dependency, st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 units stalls until R4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s pulling from fetch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uffer full fetch unit stalls fetching fro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CBF-236F-48C3-8D50-853CA5D70F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B8B62-B8DB-4A7F-9B54-879B6B979E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Order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out of order and may retire 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5 issued without even when I4 is st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5 can use an operand I4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 not issue instructions that uses operand stored by previous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I7 uses R1, written by I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uses again because I8 writes R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I6 can use different register to hol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renaming: decode unit changes R1 in I6, I7 to S1 (secret) S1 so I5, I6 can be issued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WAW and WAR dependencies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4D8-8D39-44C9-BB65-51134FBEE9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3F3AA-C018-4E87-BBCD-31E98C240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ulative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consist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ck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o control structure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n 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Only linear sequence of code. No bra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each block, reordering work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an be represented as a directed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locks are short, waste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low instructions can be moved up across blocks, , so that if they are executed, then the result is ther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ulative execution: execute code before known if they will be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776-9A8D-46BC-AA2D-56550517D7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660B-8E23-480F-92E6-9CCFEC5CB4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219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ulative Execu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883-3A70-4A0D-BFFF-D37008655815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3E783-0EB3-4529-908D-9F2A09BE0A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ulative Execution: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xamp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except even-sum and odd-sum kept in regi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ove LOAD to top of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-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dd-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sults must have no irrevocabl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name all destination registers in speculativ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peculative code caus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SPECULATIVE-LOAD instead of load so that in case of cache miss does not cause 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on Bit: If causes trap in speculative code does not make it, instead sets bit, if register touched by regular one causes tr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C38-A266-4E69-AE19-7E6F0FCADF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76719-DF08-4F0A-9890-278179FF6C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619760" cy="57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834-8F1D-479E-9B6E-2822ECBF2D72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D1A13-685D-4BFF-808E-F298F1A459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Path T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with falling edge of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s with rising edge of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467480" cy="38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333-0558-4B62-B8E1-31C607D872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BA6F5-B005-4DAF-9CF5-FBB04BAF50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39625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32 bit word-addressable port and 8 bit byte addressable port (controlled by 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, MBR PC ar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R can only output data to bus B in two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S 515, Duminda Wijeseke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22E-F8A2-4F50-B0BA-5188FB3878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4C57F-37A6-441B-AF59-71F0179E43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minda</cp:lastModifiedBy>
  <dcterms:modified xsi:type="dcterms:W3CDTF">2000-03-06T16:58:22Z</dcterms:modified>
  <cp:revision>306</cp:revision>
  <dc:subject/>
  <dc:title>PowerPoint Presentation</dc:title>
</cp:coreProperties>
</file>